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B7E-2B5A-4D17-BA9A-3D6F2C46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B59-0A98-4B3F-B2FC-EC30BE68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FEA-04CA-43E7-9635-F1A28BF7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D9F-D34C-4CE5-A619-E0C8BC77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2E1D-0B69-4348-8534-B1049BB4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9F83-5D1F-4410-A468-DF7D1714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E2D9-2C6C-4D33-944D-0D8D6E21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8C21-356C-44B4-8C10-C8D8130E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8EE2-AB3A-434E-86C6-30BF082B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56AF-F6E6-418E-834A-71FD59D9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7ED7-0EBA-455C-B4C2-01C8B08D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F1E-4A69-4CAD-9801-899731D1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E77E-BF32-4DFF-96C9-228C67EC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C81C-BD88-448C-A839-F1BF86E3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11CA-15B0-4CF7-B680-9AAF30CA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4DFC-6630-4AC8-812D-1C3E37FD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D564-620F-459C-94F0-B439A1B4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950-E0D2-4F8C-85D8-78A222DB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D57-3F6F-4F42-8522-0CA4B24B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305-7125-4F9E-898F-FA07A0C1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173-2168-4CA6-BA26-4D5A4E0E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BC6-1A07-4400-8A2C-25FCAB58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060-0A58-4B37-9E58-F514CDEF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58E-28B6-41B0-B566-462D460F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4BD8-BCFB-4DDD-B6C3-5D84411F1D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EF0E-3A8F-4DC7-A876-019804BA4C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0.jpeg"/><Relationship Id="rId7" Type="http://schemas.openxmlformats.org/officeDocument/2006/relationships/hyperlink" Target="http://www.goldposters.com/buyposters.php?item=2641463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foxnews.com/scitech/2010/10/11/scientist-claims-strange-signal-comes-alien-planet/" TargetMode="External"/><Relationship Id="rId6" Type="http://schemas.openxmlformats.org/officeDocument/2006/relationships/hyperlink" Target="http://www.foxnews.com/scitech/2010/10/11/scientist-claims-strange-signal-comes-alien-planet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tar Systems and Galax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http://t3.gstatic.com/images?q=tbn:ANd9GcQvgzZLLlVkvd--eJ3D1v2I9fJ1W2dtEc-qlMe2lxT4nHL3uQk1Og"/>
          <p:cNvPicPr/>
          <p:nvPr/>
        </p:nvPicPr>
        <p:blipFill>
          <a:blip r:embed="rId1"/>
          <a:stretch/>
        </p:blipFill>
        <p:spPr>
          <a:xfrm>
            <a:off x="228600" y="1471680"/>
            <a:ext cx="3733920" cy="515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http://www.theneweditor.com/uploads/HubbleSpiesaZooofGalaxies.jpg"/>
          <p:cNvPicPr/>
          <p:nvPr/>
        </p:nvPicPr>
        <p:blipFill>
          <a:blip r:embed="rId2"/>
          <a:stretch/>
        </p:blipFill>
        <p:spPr>
          <a:xfrm>
            <a:off x="4343400" y="144792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lax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laxy is a huge groups of single stars, star systems, star clusters, dust, and gas bound together by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billions of galaxies in the uni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ronomers have classified most galaxies into three main categories:  spiral galaxies, elliptical galaxies, and irregular galax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http://www.examiner.com/images/blog/wysiwyg/image/Spiral_Galaxy.jpg"/>
          <p:cNvPicPr/>
          <p:nvPr/>
        </p:nvPicPr>
        <p:blipFill>
          <a:blip r:embed="rId4"/>
          <a:stretch/>
        </p:blipFill>
        <p:spPr>
          <a:xfrm>
            <a:off x="304920" y="4952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http://library.thinkquest.org/20632/images/pictures/andromeda.jpg"/>
          <p:cNvPicPr/>
          <p:nvPr/>
        </p:nvPicPr>
        <p:blipFill>
          <a:blip r:embed="rId5"/>
          <a:stretch/>
        </p:blipFill>
        <p:spPr>
          <a:xfrm>
            <a:off x="2438280" y="5029200"/>
            <a:ext cx="1981440" cy="1320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http://t2.gstatic.com/images?q=tbn:ANd9GcRzBQn8NcTm4N5OnavfKMXkvTqyw7CAc1eCh-FMCjKK1CzQWNGT0A"/>
          <p:cNvPicPr/>
          <p:nvPr/>
        </p:nvPicPr>
        <p:blipFill>
          <a:blip r:embed="rId6"/>
          <a:stretch/>
        </p:blipFill>
        <p:spPr>
          <a:xfrm>
            <a:off x="5181480" y="4800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al Galax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ral galaxies are galaxies that have the shape of twin spir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galaxy has the same spiral, pinwheel sha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iral arms contain many bright, young stars as well as gas and d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9" descr="spiral-galaxy"/>
          <p:cNvPicPr/>
          <p:nvPr/>
        </p:nvPicPr>
        <p:blipFill>
          <a:blip r:embed="rId4"/>
          <a:stretch/>
        </p:blipFill>
        <p:spPr>
          <a:xfrm>
            <a:off x="4572000" y="1752480"/>
            <a:ext cx="43434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liptical Galax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galaxies have spiral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iptical galaxies look like flattened ba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galaxies contain billions of stars but have little gas and dust between the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elliptical-galaxies"/>
          <p:cNvPicPr/>
          <p:nvPr/>
        </p:nvPicPr>
        <p:blipFill>
          <a:blip r:embed="rId4"/>
          <a:stretch/>
        </p:blipFill>
        <p:spPr>
          <a:xfrm>
            <a:off x="4495680" y="1676520"/>
            <a:ext cx="457200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regular Galax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galaxies do not have regular shap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this, they are known as irregular galax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egular galaxies are typically smaller than other types of galax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6" descr="Irregular_Galaxy"/>
          <p:cNvPicPr/>
          <p:nvPr/>
        </p:nvPicPr>
        <p:blipFill>
          <a:blip r:embed="rId4"/>
          <a:stretch/>
        </p:blipFill>
        <p:spPr>
          <a:xfrm>
            <a:off x="4876920" y="1855800"/>
            <a:ext cx="38955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sa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quasar is an enormously bright, distant galaxy with a giant black hole at its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se black holes has a mass of a billion times or more as great as the s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enormous amounts of gas revolve around the black hole, the gas heats up and shines brigh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http://lh5.ggpht.com/_Na1pgA0cvZ0/Sgj-I8ups4I/AAAAAAAAAvw/niraqJQxkCI/quasar%5B3%5D.jpg"/>
          <p:cNvPicPr/>
          <p:nvPr/>
        </p:nvPicPr>
        <p:blipFill>
          <a:blip r:embed="rId4"/>
          <a:stretch/>
        </p:blipFill>
        <p:spPr>
          <a:xfrm>
            <a:off x="6324480" y="0"/>
            <a:ext cx="2200320" cy="1676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http://images.iop.org/objects/phw/news/8/6/1/padovani.jpg"/>
          <p:cNvPicPr/>
          <p:nvPr/>
        </p:nvPicPr>
        <p:blipFill>
          <a:blip r:embed="rId5"/>
          <a:stretch/>
        </p:blipFill>
        <p:spPr>
          <a:xfrm>
            <a:off x="457200" y="152280"/>
            <a:ext cx="213840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http://www.windows2universe.org/the_universe/images/qsohosts_s.gif"/>
          <p:cNvPicPr/>
          <p:nvPr/>
        </p:nvPicPr>
        <p:blipFill>
          <a:blip r:embed="rId6"/>
          <a:stretch/>
        </p:blipFill>
        <p:spPr>
          <a:xfrm>
            <a:off x="3962520" y="5029200"/>
            <a:ext cx="50068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 Systems and Galax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zy band of light stretched across the sky is the Milky Way, a spiral barred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looks as if the Milky Way is very far away from Earth.  Actually, though, Earth is inside the Milky Wa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http://t3.gstatic.com/images?q=tbn:ANd9GcR51DOD60QEseiaCE4F25HJP2rEvjxksyqnZedqOU617MQbrClsPw"/>
          <p:cNvPicPr/>
          <p:nvPr/>
        </p:nvPicPr>
        <p:blipFill>
          <a:blip r:embed="rId3"/>
          <a:stretch/>
        </p:blipFill>
        <p:spPr>
          <a:xfrm>
            <a:off x="5181480" y="3886200"/>
            <a:ext cx="3365640" cy="2543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http://apod.nasa.gov/apod/image/0710/MilkyWayRoad_landolfi.jpg"/>
          <p:cNvPicPr/>
          <p:nvPr/>
        </p:nvPicPr>
        <p:blipFill>
          <a:blip r:embed="rId4"/>
          <a:stretch/>
        </p:blipFill>
        <p:spPr>
          <a:xfrm>
            <a:off x="0" y="4114800"/>
            <a:ext cx="1981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 Systems and Plan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solar system has only one star, the s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 of all stars are members of groups of two stars called binary star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is star system you would see two or more suns in the sk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binarystar"/>
          <p:cNvPicPr/>
          <p:nvPr/>
        </p:nvPicPr>
        <p:blipFill>
          <a:blip r:embed="rId4"/>
          <a:stretch/>
        </p:blipFill>
        <p:spPr>
          <a:xfrm>
            <a:off x="4657680" y="1981080"/>
            <a:ext cx="395280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and Triple Star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fix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ns “two.” What does Tri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ample of a binary star system is in the handle of the Big Dip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ith three stars are called triple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ample of a triple star system is that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pha Centar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pha Centa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closest star to ours, but it is really three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binary-star-systems_69"/>
          <p:cNvPicPr/>
          <p:nvPr/>
        </p:nvPicPr>
        <p:blipFill>
          <a:blip r:embed="rId6"/>
          <a:stretch/>
        </p:blipFill>
        <p:spPr>
          <a:xfrm>
            <a:off x="304920" y="5105520"/>
            <a:ext cx="2209680" cy="15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This Artist's Animation Shows the Clockwork-Like Orbits of a Triple-Star System Called HD 188753 Poster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48006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lipsing Bina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m star in a binary star may pass in front of a brighter star and eclipse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Earth, the binary star would suddenly dim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ystem in which one star periodically blocks the light from another star is called an eclipsing bin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http://www.armaghplanet.com/blog/wp-content/uploads/2010/11/Image-of-eclipsing-binary.jpg"/>
          <p:cNvPicPr/>
          <p:nvPr/>
        </p:nvPicPr>
        <p:blipFill>
          <a:blip r:embed="rId4"/>
          <a:stretch/>
        </p:blipFill>
        <p:spPr>
          <a:xfrm>
            <a:off x="5181480" y="4724280"/>
            <a:ext cx="2862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ple star system, astronomers found a world called HD 188753 A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ould not set foot on this planet though, since it’s a “gas giant”, roughly the mass of Jupiter, orbiting its parent star every 3.3 day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http://upload.wikimedia.org/wikipedia/commons/thumb/9/90/Triple-star_sunset.jpg/200px-Triple-star_sunset.jpg"/>
          <p:cNvPicPr/>
          <p:nvPr/>
        </p:nvPicPr>
        <p:blipFill>
          <a:blip r:embed="rId3"/>
          <a:stretch/>
        </p:blipFill>
        <p:spPr>
          <a:xfrm>
            <a:off x="5257800" y="39625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gliese581c"/>
          <p:cNvPicPr/>
          <p:nvPr/>
        </p:nvPicPr>
        <p:blipFill>
          <a:blip r:embed="rId4"/>
          <a:stretch/>
        </p:blipFill>
        <p:spPr>
          <a:xfrm>
            <a:off x="0" y="4724280"/>
            <a:ext cx="2514600" cy="1932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830680" y="518148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Gliese 581-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Earth-like pla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 Clu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stars belong to larger groupings called star clu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stars cluster form from the same nebula at about the sam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major types of star clusters:  open clusters and globular clu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http://www.atlasoftheuniverse.com/nic1805.jpg"/>
          <p:cNvPicPr/>
          <p:nvPr/>
        </p:nvPicPr>
        <p:blipFill>
          <a:blip r:embed="rId4"/>
          <a:stretch/>
        </p:blipFill>
        <p:spPr>
          <a:xfrm>
            <a:off x="380880" y="4419720"/>
            <a:ext cx="3537000" cy="2100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http://images.astronet.ru/pubd/2003/01/02/0001182189/ngc1818_hst.jpg"/>
          <p:cNvPicPr/>
          <p:nvPr/>
        </p:nvPicPr>
        <p:blipFill>
          <a:blip r:embed="rId5"/>
          <a:stretch/>
        </p:blipFill>
        <p:spPr>
          <a:xfrm>
            <a:off x="4419720" y="4419720"/>
            <a:ext cx="427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 Clu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clusters have a loose, disorganized appearance and contain no more than a few thousand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often contain many bright supergiants and mostly gas and d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11" descr="2006-17-c-large_web"/>
          <p:cNvPicPr/>
          <p:nvPr/>
        </p:nvPicPr>
        <p:blipFill>
          <a:blip r:embed="rId3"/>
          <a:stretch/>
        </p:blipFill>
        <p:spPr>
          <a:xfrm>
            <a:off x="162000" y="1533600"/>
            <a:ext cx="44863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 Clu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ular clusters are large groupings of older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ular clusters are round and densely packed with stars—some may contain more than a million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m55_mochejska_full"/>
          <p:cNvPicPr/>
          <p:nvPr/>
        </p:nvPicPr>
        <p:blipFill>
          <a:blip r:embed="rId3"/>
          <a:stretch/>
        </p:blipFill>
        <p:spPr>
          <a:xfrm>
            <a:off x="228600" y="1523880"/>
            <a:ext cx="43513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20:42:41Z</dcterms:created>
  <dc:creator>Katie Smith</dc:creator>
  <dc:description/>
  <dc:language>en-US</dc:language>
  <cp:lastModifiedBy>Brandi</cp:lastModifiedBy>
  <dcterms:modified xsi:type="dcterms:W3CDTF">2014-02-23T21:50:44Z</dcterms:modified>
  <cp:revision>22</cp:revision>
  <dc:subject/>
  <dc:title>Star Systems and Galaxies</dc:title>
</cp:coreProperties>
</file>